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7AD3-F1D0-46BF-BC49-006709A59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9E26-9A13-4FED-82CD-34B8F16D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30D2-91F8-4E21-8A98-9CCDD3F0C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67C8-C821-452F-BBA0-A8133728A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4242-CAFA-4A1B-A530-C3A5D0DC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25F1-2823-4160-AC33-4ED4B56A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BFA2-C792-44DC-8FB5-B90E859E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6D35-6082-4166-A3FB-44799B19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B5B4-7FD0-4CB1-A1DE-1ECC031E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AFC3-EFC9-43B9-A3CA-DAFA6A9B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BE17-9E20-46A4-87F2-413BD14A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7117-3D38-4F4A-8581-47233331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F8F2-5C72-4300-86C8-E02D2CB4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D21D-9D98-4F40-8993-8D78450B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AD71-C155-4414-83F0-4FBBF023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7847-14A7-4E24-828F-4F70123BB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86DB-7778-4BF0-862A-B11F39C7E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4856-0ACE-47E1-98DC-C1DFB971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2EEB-C764-4D3D-A52A-8B56F7D2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6E5E-AECC-465B-A4E0-130776FD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F1E9-6247-4461-8D96-B52A714C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8505-E287-4D75-8F9A-3D3C0F34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7BEB-48B7-4617-85B6-443C94AF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6149-3005-45C4-BA2C-A025AB66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CB7F-9022-4A42-B5EB-2397573C66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D8BA-EAAC-46CB-9736-82F30F26D1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How Kitties  Fly South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Emil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81680" y="304920"/>
            <a:ext cx="1482840" cy="1876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981080" y="380880"/>
            <a:ext cx="159228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was a chilly  October night in kitty world.  There  was a kitten under the leave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hutters began banging loudly.  Kate the cat flew south to stay warm.  Kate's jacket fell   the kitties flew to south because the dogs invaded kitty worl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553080" y="3733920"/>
            <a:ext cx="1667160" cy="1838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1835280" cy="1441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429000" y="5486400"/>
            <a:ext cx="181620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ey came back they had dinner. The kitties had tuna stew and crab for dinn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581280" y="4191120"/>
            <a:ext cx="191628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  strawberry pie for desser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505320" y="4191120"/>
            <a:ext cx="18302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6:09:28Z</dcterms:created>
  <dc:creator>student</dc:creator>
  <dc:description/>
  <dc:language>en-US</dc:language>
  <cp:lastModifiedBy>student</cp:lastModifiedBy>
  <dcterms:modified xsi:type="dcterms:W3CDTF">2010-10-28T17:54:50Z</dcterms:modified>
  <cp:revision>9</cp:revision>
  <dc:subject/>
  <dc:title>How Kittys  Fly To South</dc:title>
</cp:coreProperties>
</file>